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0648-F646-4039-838D-33C7BAFB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171-4EB7-416F-8EB0-48B41176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DC92-A352-4A89-9DBB-B1D7992F3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596D-1678-4D88-B88F-0AF7C66F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7A0-0EB2-4202-8EB7-B26E38D0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0B92-6F14-493A-AEED-BF56572B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38E-EF5B-4870-BF0E-1CB04C6C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817-B69F-45C8-8B7F-5D6A2033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E581-C1F7-4BB1-AF10-BF939C5B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C25-DDEB-49E4-8AB4-F2F7F040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11E-1DFE-48E1-9712-748B0A06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3A2A-407E-48C7-A1DE-184A06A7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4262-28EE-4A2C-B6B6-69EB85979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36640"/>
            <a:ext cx="9144000" cy="5143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050920" y="2492280"/>
            <a:ext cx="5832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ВАР - КОНДИТЕ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84120"/>
            <a:ext cx="9144000" cy="6089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39720"/>
            <a:ext cx="9144000" cy="5576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98400"/>
            <a:ext cx="9144000" cy="5459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0"/>
            <a:ext cx="86868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69720"/>
            <a:ext cx="9144000" cy="611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82680"/>
            <a:ext cx="9144000" cy="60926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120" y="0"/>
            <a:ext cx="88599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853920"/>
            <a:ext cx="9144000" cy="514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78000"/>
            <a:ext cx="9144000" cy="6100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190520"/>
            <a:ext cx="914400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4600" y="0"/>
            <a:ext cx="87933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480" y="0"/>
            <a:ext cx="9023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44720"/>
            <a:ext cx="9144000" cy="476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30320" y="0"/>
            <a:ext cx="70819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2680"/>
            <a:ext cx="9144000" cy="6091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19120"/>
            <a:ext cx="9144000" cy="58183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" y="0"/>
            <a:ext cx="907704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66760"/>
            <a:ext cx="9144000" cy="63244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специалист, умеющий изготавливать кондитерские изделия и десер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46040"/>
            <a:ext cx="9144000" cy="5964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465200"/>
            <a:ext cx="9144000" cy="39258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65240"/>
            <a:ext cx="9144000" cy="6527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703440"/>
            <a:ext cx="9144000" cy="5449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0880"/>
            <a:ext cx="9144000" cy="6096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557360"/>
            <a:ext cx="3475080" cy="5156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0920" y="836640"/>
            <a:ext cx="597708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ятного аппетит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одводим итог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ПОВАР-КОНДИТЕ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фессионально-важные качеств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любить готови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обходим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хорошая памя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в том числе вкусовая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ооб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тонкий вкус и обоня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ороша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оординация движе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на уровне рук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лазомер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оспроизводящее воображение (способность, глядя на рецепт, представить внешний вид и вкус блюда)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стн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дитеру нуж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изическая выносливос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При поточном производстве приходится работать в высоком темпе, а если на производстве нет автоматизации, это означает большие физические нагруз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дицинские противопо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зни опорно-двигательного аппарата, сердечнососудистой системы,  аллергии на пищевые продукты, хронические заболевания органов пищеварения, органов дыхания, органов зрения, кожи с локализацией на кистях р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бсолютно недопустимы инфекционные и нервные боле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38080"/>
            <a:ext cx="9144000" cy="51818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341360"/>
            <a:ext cx="9144000" cy="51451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40464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</a:rPr>
              <a:t>ПРОФЕССИОНАЛЬНАЯ ПРО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55640" y="1628640"/>
            <a:ext cx="7199280" cy="42166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8900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Трайф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диционный английский десе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еводе с английского - «Мелочь», «Пустяч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"/>
              </a:rPr>
              <a:t>Правил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 началом работ надеть форму, перча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готовление десерта описано в технологической карте. Соблюдайте технологию пригото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 о правилах безопасной работы с ножом и электрическим миксе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мя приготовления 15 мину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1844640"/>
            <a:ext cx="4537080" cy="4537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60280"/>
            <a:ext cx="453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6600"/>
                </a:solidFill>
                <a:latin typeface="Arial"/>
              </a:rPr>
              <a:t>«Кофе-брей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260280"/>
            <a:ext cx="40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Трайф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«Фруктовый (ягодный)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62480" y="1844640"/>
            <a:ext cx="3608640" cy="45100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Arial"/>
              </a:rPr>
              <a:t>РЕЦЕП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765000"/>
          <a:ext cx="8229600" cy="4926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6600"/>
                          </a:solidFill>
                          <a:latin typeface="Arial"/>
                        </a:rPr>
                        <a:t>«Кофе-брейк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Трайф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«Фруктовый (ягодный)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холодным коф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слой (нижний) – бисквит, пропитанный ягодным сироп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слой – сироп (варенье из ягод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бан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слой – нарезанные фрукты или яг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слой - ванильный кр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,7,8 слои повторяют 1,2,3,4 сло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слой – сливки, взбитые с сахарной пуд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9T19:14:04Z</dcterms:created>
  <dc:creator>Александр</dc:creator>
  <dc:description/>
  <dc:language>en-US</dc:language>
  <cp:lastModifiedBy>Александр</cp:lastModifiedBy>
  <dcterms:modified xsi:type="dcterms:W3CDTF">2017-12-21T02:47:06Z</dcterms:modified>
  <cp:revision>4</cp:revision>
  <dc:subject/>
  <dc:title>Слайд 1</dc:title>
</cp:coreProperties>
</file>